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99C-2BDB-4097-8D48-E879A13E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F32-EAD9-49EA-9401-7C7FC90E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6A9-075E-4A3D-9D70-BCCAAACD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3BC-9791-40F2-9916-BF092107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7FF-1C5D-43B4-B9D0-898055E8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72D-7A91-4242-B3AB-C44A617C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984-476E-436D-883C-6487CD72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224-147D-4BD0-9F75-F3BE0B72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31C-6E28-45F3-9468-2FC54E89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FA8-C9D5-46FF-AD05-4E551E04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3CE-A053-49EB-82D3-D54693DE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B65-EAF4-4CAD-BF66-4FBEB493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2E60-904D-4A1B-8C12-CBF09F395992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20720"/>
            <a:ext cx="443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M.S Data Provider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M.S D.Pr appl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og-ou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42100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4041720"/>
            <a:ext cx="5832360" cy="395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299556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4520" y="408312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4520" y="2498760"/>
            <a:ext cx="410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cted ship call (pre-arriva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4520" y="3075120"/>
            <a:ext cx="3060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5179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4520" y="357840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MAT notification prior to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54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560" y="2421000"/>
            <a:ext cx="1738440" cy="2160360"/>
            <a:chOff x="601560" y="2421000"/>
            <a:chExt cx="1738440" cy="2160360"/>
          </a:xfrm>
        </p:grpSpPr>
        <p:sp>
          <p:nvSpPr>
            <p:cNvPr id="58" name=""/>
            <p:cNvSpPr/>
            <p:nvPr/>
          </p:nvSpPr>
          <p:spPr>
            <a:xfrm>
              <a:off x="601560" y="2421000"/>
              <a:ext cx="1738440" cy="2160360"/>
            </a:xfrm>
            <a:prstGeom prst="flowChartAlternateProcess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560" y="2971800"/>
              <a:ext cx="17384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Verdana"/>
                </a:rPr>
                <a:t>Send/ update notification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560" y="1620720"/>
            <a:ext cx="30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Select Vess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 application&gt; Notify/ Update departure information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 &gt; Step 1: Select Shi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78040" y="204480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O Number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22680" y="20271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MSI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4720" y="20606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3280" y="203832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040" y="23083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l Sig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22892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ip Name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4720" y="232416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3280" y="23018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95760" y="26100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1720" y="2308320"/>
            <a:ext cx="50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CA*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75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87520" y="3564000"/>
            <a:ext cx="7966080" cy="1608480"/>
            <a:chOff x="587520" y="3564000"/>
            <a:chExt cx="7966080" cy="1608480"/>
          </a:xfrm>
        </p:grpSpPr>
        <p:sp>
          <p:nvSpPr>
            <p:cNvPr id="80" name=""/>
            <p:cNvSpPr/>
            <p:nvPr/>
          </p:nvSpPr>
          <p:spPr>
            <a:xfrm>
              <a:off x="587520" y="3564000"/>
              <a:ext cx="160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Name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9520" y="3564000"/>
              <a:ext cx="8222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IMO Numbe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03840" y="3564000"/>
              <a:ext cx="954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MMSI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83400" y="3564000"/>
              <a:ext cx="79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Call Sig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75400" y="3564000"/>
              <a:ext cx="927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Las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02400" y="3564000"/>
              <a:ext cx="9082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ET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10680" y="3564000"/>
              <a:ext cx="97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82320" y="3564000"/>
              <a:ext cx="9586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7520" y="3960720"/>
              <a:ext cx="16020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O  </a:t>
              </a:r>
              <a:r>
                <a:rPr b="1" lang="en-US" sz="1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89520" y="396072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03884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03840" y="396072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5226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83400" y="396072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FGV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5400" y="396072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/3/2007 16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02400" y="396072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/7/2009 15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10680" y="396072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/7/2009 22:20    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2320" y="3960720"/>
              <a:ext cx="9712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7520" y="436716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PALAC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89520" y="436716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481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03840" y="436716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3951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83400" y="436716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WEW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75400" y="436716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/2/2006 15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02400" y="436716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1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10680" y="436716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2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82320" y="4367160"/>
              <a:ext cx="971280" cy="70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7520" y="477360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 III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76560" y="4773600"/>
              <a:ext cx="8226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541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1240" y="4773600"/>
              <a:ext cx="9792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12335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0440" y="4773600"/>
              <a:ext cx="7923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3WM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0" y="477360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/7/2008 18:2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9800" y="477360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7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97720" y="477360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8: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69360" y="477360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01560" y="573408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Verdana"/>
              </a:rPr>
              <a:t>3 vessels found, displaying 3 ite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" y="3968640"/>
            <a:ext cx="7953120" cy="406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73600" y="4413240"/>
            <a:ext cx="0" cy="996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89400" y="5452920"/>
            <a:ext cx="465300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The application should automatically retrieve data stored so far in the database and related to that specific shi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74760" y="1363680"/>
            <a:ext cx="8364600" cy="5305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departure inform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. application&gt;Notify/update ship departure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Insert/ Update departure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122" name="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86040" y="2612880"/>
            <a:ext cx="81432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ACA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86040" y="2847960"/>
            <a:ext cx="14986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93920" y="284796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2600280"/>
            <a:ext cx="15145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22:2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2857680"/>
            <a:ext cx="15145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720" y="2638440"/>
            <a:ext cx="40176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26240" y="2638440"/>
            <a:ext cx="814320" cy="1904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10400" y="2624040"/>
            <a:ext cx="8938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SAL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6240" y="26305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9760" y="2876400"/>
            <a:ext cx="1308240" cy="18108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6000" y="28638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1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24120" y="3102120"/>
            <a:ext cx="45370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1200" y="3365640"/>
            <a:ext cx="76611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685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A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74840" y="3868560"/>
            <a:ext cx="159372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9/7/2009 21:0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6520" y="3538440"/>
            <a:ext cx="65815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parture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8480" y="63025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88200" y="374652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6040" y="595008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83400" y="378288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4508640"/>
            <a:ext cx="4032000" cy="118872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8880" y="4616280"/>
            <a:ext cx="28191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sert/ Update 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departing from a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42040" y="5302080"/>
            <a:ext cx="26859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sert/ update  Hazmat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63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516480" y="231300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2313000"/>
            <a:ext cx="201600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7160" y="6348240"/>
            <a:ext cx="851040" cy="200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42040" y="5289480"/>
            <a:ext cx="2714400" cy="28584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395800">
            <a:off x="7465320" y="4508280"/>
            <a:ext cx="738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Wingdings"/>
                <a:ea typeface="Wingdings"/>
              </a:rPr>
              <a:t>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640224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remove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18519E-006 L -0.01962 0.03149 E">
                                      <p:cBhvr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74760" y="136368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Hazmat inform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7440" y="1089000"/>
            <a:ext cx="87692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 application&gt; Notify/ Update departure 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&gt; Step 2: Insert/update departure data &gt; Insert/ Update Hazma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74760" y="2600280"/>
            <a:ext cx="2325600" cy="246240"/>
            <a:chOff x="374760" y="2600280"/>
            <a:chExt cx="2325600" cy="246240"/>
          </a:xfrm>
        </p:grpSpPr>
        <p:sp>
          <p:nvSpPr>
            <p:cNvPr id="178" name=""/>
            <p:cNvSpPr/>
            <p:nvPr/>
          </p:nvSpPr>
          <p:spPr>
            <a:xfrm>
              <a:off x="374760" y="2600280"/>
              <a:ext cx="1511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Last Port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6040" y="2631960"/>
              <a:ext cx="814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6040" y="2612880"/>
              <a:ext cx="6699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ACA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86040" y="2871720"/>
            <a:ext cx="130788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81360" y="2857680"/>
            <a:ext cx="153324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631960"/>
            <a:ext cx="15145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2876400"/>
            <a:ext cx="151452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2637000"/>
            <a:ext cx="151452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22:2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35280" y="2887560"/>
            <a:ext cx="151452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48560" y="263988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9240" y="2620800"/>
            <a:ext cx="9158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SAL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26226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08600" y="2876400"/>
            <a:ext cx="14526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99240" y="2876400"/>
            <a:ext cx="146196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1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1200" y="3365640"/>
            <a:ext cx="7661160" cy="28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8960" y="4422600"/>
            <a:ext cx="1601640" cy="70308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assification of dangerous goods per IMO (multiple entry possible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868560"/>
            <a:ext cx="158904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Hazmat in board?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74840" y="43624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D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74840" y="385920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6320" y="3416400"/>
            <a:ext cx="6581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departing from a EU port 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64320" y="63025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88200" y="341640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 rot="10800000">
            <a:off x="7488360" y="630180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32320" y="5722920"/>
            <a:ext cx="67284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64160" y="34164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74840" y="46162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74840" y="48704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74840" y="512460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74840" y="538632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3716280"/>
            <a:ext cx="3605400" cy="19461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65800" y="5124600"/>
            <a:ext cx="3419280" cy="45216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41760" y="5180040"/>
            <a:ext cx="341964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2):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Provide URL  of cargo manifest or the contact details of the Cargo Manifest provide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1160" y="3800520"/>
            <a:ext cx="3463920" cy="121284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4044960"/>
            <a:ext cx="3264120" cy="50472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25920" y="4000680"/>
            <a:ext cx="3187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a. Provide URL of the HAZMAT declaration document 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Verdana"/>
              </a:rPr>
              <a:t>o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contact details of the data provider of Hazmat declaration detai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4616280"/>
            <a:ext cx="3264120" cy="24480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41760" y="4616280"/>
            <a:ext cx="3187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b. Provide Hazmat declaration detai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225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35640" y="3800520"/>
            <a:ext cx="36367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1):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[Choice (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(1a) or (1b)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)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230" name="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886040" y="2335320"/>
            <a:ext cx="17492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02040" y="235584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arrival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37160" y="2335320"/>
            <a:ext cx="1757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departure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5732640"/>
            <a:ext cx="28101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 (upon departur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630252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74840" y="4362480"/>
            <a:ext cx="1960560" cy="129996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6-08T17:45:41Z</dcterms:modified>
  <cp:revision>384</cp:revision>
  <dc:subject/>
  <dc:title>Slide 1</dc:title>
</cp:coreProperties>
</file>